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40BE-6215-46C6-A272-E02C9A8C4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193D-743D-4342-BE2E-FB4812A31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98C1-0299-4157-B193-6BA4452B3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8210-A9B4-4BB8-8BD6-8ABF4F0BD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48EA-40CA-420E-8A3A-D8045B8D9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236D-78DD-442F-BF85-2DA793EF8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EBEC-0C2E-43C7-94AC-02B150168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A812-049A-433C-A7EB-67F849712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3297-8393-4807-8219-B0EA79DB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566E-D4D9-4F9B-91B4-90AE1358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5A5-BF79-4DE9-9291-9365D168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158-E4DA-467D-82E0-3093A980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84A-0AFE-4B3E-83D4-EED53B47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007E-C7A0-475B-BDE1-17881DB9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F99-C924-420C-B766-2CAC1FCD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757-0421-4ED5-9A17-E24F7E91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446-F340-4225-97DD-E85EC6EC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F46-0731-4247-9205-5A564F70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EE9-7C74-4DF0-AD41-634E3358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A658-249D-4A32-B65E-565F3E4E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EA6D-ECEF-4A4F-9E1E-F585AEB1B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4360" y="5589720"/>
            <a:ext cx="45291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оф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. др Владимир Живк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28060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2268360" y="17733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ДУЛ 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И СПОРТСКЕ ФАРМАЦИЈЕ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324000" y="2924280"/>
            <a:ext cx="8281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. наставна јединица (трећ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ИТАМИНИ И МИНЕРАЛИ КАО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ПЛЕМЕНТИ У СПОРТУ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26920" y="1267920"/>
            <a:ext cx="7871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Физиолошка искористљивост витам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нутрашњи фактори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 u="sng">
                <a:solidFill>
                  <a:srgbClr val="000000"/>
                </a:solidFill>
                <a:uFillTx/>
                <a:latin typeface="Calibri"/>
              </a:rPr>
              <a:t>Физиолошки фактор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Разлике у функцији ГИТ-а у зависности од старости утичу на апсорпциј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Нпр. апсорпција вит. Б12 је смањена код старијих особа услед смањене активности паријеталних ћелија желуц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 u="sng">
                <a:solidFill>
                  <a:srgbClr val="000000"/>
                </a:solidFill>
                <a:uFillTx/>
                <a:latin typeface="Calibri"/>
              </a:rPr>
              <a:t>Здравствени стату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Различите болести могу утицати на апсорпцију и биоискористљивост неких витам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Нпр. апсорпција вит. Б9 је смањена код особа са ентеритис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РЕХРАМБЕНИ ИЗВОРИ ВИТАМ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47640" y="836640"/>
          <a:ext cx="5904000" cy="5824440"/>
        </p:xfrm>
        <a:graphic>
          <a:graphicData uri="http://schemas.openxmlformats.org/drawingml/2006/table">
            <a:tbl>
              <a:tblPr/>
              <a:tblGrid>
                <a:gridCol w="1152720"/>
                <a:gridCol w="1224000"/>
                <a:gridCol w="1224000"/>
                <a:gridCol w="1152360"/>
                <a:gridCol w="1150920"/>
              </a:tblGrid>
              <a:tr h="277920"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вит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витамин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 витами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 Витамин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 вит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546520"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лац, павлака, кајмак, масни сиреви, сардина, рибље уље, жуманце, масно месо, срце, харинга, печурке, парадајз, зелена салата, спанаћ, шаргарепа, купус, карфиол, зрна житарице, црни – комплетни хлеб, сочиво, бадем, орах, банане, лимун, поморанџ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ивски квасац, клице житарица, сочиво, жуманце, купус, шаргарепа, спанаћ, карфиол, лук, јабуке, крушке, кромпир, црни – комплетни хлеб, грашак, млеко, маслац, лимун, поморанџа, парадајз, бадем, орах, печурке, шљиве, грожђе, банане, зелена салата, месо свињско, бубрези, јетра, пасуљ, кикири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мун, поморанџа, шипак, паприка, боровница, купус, парадајз, лук, зелена салата, зелени грашак, спанаћ, карфиол, грожђе, банане, шаргарепа, боранија, јабуке, крушке, шљиве, месни екстракт, млек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ибље уље, жуманце, маслац, кајмак, млеко, павлака, свињска јет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ље из клица житарица, кикирики, зелена салата, жуманце, масла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итамини и минерали у исхрани спорт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Још увек не постоје препоруке за унос витамина и минерала код спортиста, већ се они и даље воде табелама за осталу популац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ртисти треба да знају да интензивни програми вежбања повећавају њихову потребу за микронутријент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раживања нису пружила јасан доказ о побољшању спортске способности након додатка витамина, осим у случајевима када је било потребно кориговати постојећи недостат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раживања о начину исхране спортиста показују да, када конзумирају разноврсну храну богату нуријентима, забележени унос витамина и минерала премашује општеприхваћене препоруке и достиже повећане потребе за микронутријентима изазване тренирањ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ефицит витамина и минерала код спорт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њи унос микронутријената може се јавити код спортиста који су уздржани у храни или немају дисциплинован начин исхране, али и код оних који су на такозваном модерном брзом начину исхр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тоји неколико узрока дефицита витамина и минерал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еадекватан унос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лоша апсорпција витамин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лоша искористљивост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већана екскрециј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већана деструкција у организм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ефицит уноса витамина и минерала код спорт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зрок дефицита који је најлакше препознати ј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адекватан ун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стаје услед (фактори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тила живот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вика у исхран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себног режиме исхран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честих путовања или такмичењ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еразвијених кулинарских вештин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едовољне нутритивне едукациј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едовољне финансијске потпор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здравственог ст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ређивање потребе за витаминима и минерали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требе организма за витаминима и минералима одређујемо помоћу табеларних вредности које су задате за витамине и минерал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rcRect l="14861" t="55910" r="22882" b="18504"/>
          <a:stretch/>
        </p:blipFill>
        <p:spPr>
          <a:xfrm>
            <a:off x="539640" y="3645000"/>
            <a:ext cx="8099640" cy="1871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1547640" y="3141720"/>
            <a:ext cx="63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дности које одређују потребе за микронутријен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own Arrow 10"/>
          <p:cNvSpPr/>
          <p:nvPr/>
        </p:nvSpPr>
        <p:spPr>
          <a:xfrm>
            <a:off x="4500720" y="2565360"/>
            <a:ext cx="215640" cy="576360"/>
          </a:xfrm>
          <a:prstGeom prst="downArrow">
            <a:avLst>
              <a:gd name="adj1" fmla="val 50000"/>
              <a:gd name="adj2" fmla="val 5006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дређивање прихватљивог горњег нивоа уноса витамина и минер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хватљив горњи (сигуран) ниво уноса обухвата сабирање доза витамина и минерала унетих храном или пићем и унос путем суплеме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што је нутритивни унос најчешће у дефициту, остаје довољно простора да спортиста тај недостатак надокнади суплементима, а да опште здравље не доведе у риз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rcRect l="26839" t="51801" r="41063" b="8829"/>
          <a:stretch/>
        </p:blipFill>
        <p:spPr>
          <a:xfrm>
            <a:off x="2268360" y="3645000"/>
            <a:ext cx="41752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поручена дневна доза нутријен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560" y="1773360"/>
            <a:ext cx="62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чена дневна доза (енг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commended daily allowance, RDA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 дефиницији представља количину нутријената која задовољава потребе целокупне здраве популације и код које је ризик од дефицијенције 2–3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DA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 узима у обзир посебне потребе физички активних људи, људи с повећаним потребама или пацијената с различитим стањима и болест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бог тог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DA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ба критички просуђивати с циљем разумевања потреба различитих популационих група, поготово спорт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Ð ÐµÐ·ÑÐ»ÑÐ°Ñ ÑÐ»Ð¸ÐºÐ° Ð·Ð° recommended dietary allowance"/>
          <p:cNvPicPr/>
          <p:nvPr/>
        </p:nvPicPr>
        <p:blipFill>
          <a:blip r:embed="rId1"/>
          <a:stretch/>
        </p:blipFill>
        <p:spPr>
          <a:xfrm>
            <a:off x="6516720" y="1916280"/>
            <a:ext cx="23986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поруке за унос витам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560" y="105264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ститу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дици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ера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нов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р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20751" t="31127" r="28335" b="10797"/>
          <a:stretch/>
        </p:blipFill>
        <p:spPr>
          <a:xfrm>
            <a:off x="611280" y="1773360"/>
            <a:ext cx="7635960" cy="4895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755640" y="2205000"/>
            <a:ext cx="612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755640" y="3429000"/>
            <a:ext cx="612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55640" y="2492280"/>
            <a:ext cx="612000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поруке за унос минер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560" y="105264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ститу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дици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ера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нов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р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rcRect l="20751" t="32111" r="27782" b="22613"/>
          <a:stretch/>
        </p:blipFill>
        <p:spPr>
          <a:xfrm>
            <a:off x="179280" y="2133720"/>
            <a:ext cx="873468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324000" y="2492280"/>
            <a:ext cx="784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24000" y="3068640"/>
            <a:ext cx="784836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24000" y="3573360"/>
            <a:ext cx="784836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50560" y="1268280"/>
            <a:ext cx="8569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ПШТЕ КАРАКТЕРИСТИКЕ ВИТАМ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органска једиње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мале молекулске ма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различите структу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13 до сада октривених вр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растворљиви у води (вит. Ц и комплекс вит. Б) и мастима (вит. А, Д, Е и 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неопходни за велики број животних функциј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види слајд 6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Резултат слика за vitamini"/>
          <p:cNvPicPr/>
          <p:nvPr/>
        </p:nvPicPr>
        <p:blipFill>
          <a:blip r:embed="rId2"/>
          <a:stretch/>
        </p:blipFill>
        <p:spPr>
          <a:xfrm>
            <a:off x="2916360" y="4581360"/>
            <a:ext cx="32176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НАЧАЈ ВИТАМИНА КОД СПОРТИ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итамина 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порт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чајније место припада β каротену, обзиром да је овај прекурсор витамина А познат по својим антиоксидативним својств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тити ћелијску мембрану од слободних радикала који се појачано формирају током интензивног трен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раживања су показала 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олико је дефицит β-каротена или витамина А већ присутан или је спортиста на нискокалоричној дијети, суплементација је свакако препоручљ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упрот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датна примена β-каротена неће побољшати спортске перформансе, а може довести до пораста интракранијалног притиска, оштећења ткива и имуносупресије, као и оштећења плода код трудница, уколико се предози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итамина Б груп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казало се да сама физичка активност смањује концентрацију тиамина, рибофлав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 пиридокс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на 2 начи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њењем апсорпције у цревима и повећањем излучивањ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тензивирањем потрошње активацијом појединих метаболичких путе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порту, дефицит витамина Б групе погоршава спортске перформансе и отежава релаксацију мишића, нарочито при максималном физичком напору, због чега их је неопходно надокнади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ође, има показатеља да неки витамини у вишку могу побољшати одређене вештине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пр. тиамин, пиридоксин и кобаламин олакшавају фину моторну координацију и мишићну релаксац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итамина Б груп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ако многи спортисти редовно уносе велике дозе витамина Б групе, сматра се да се потребне количине ових витамина могу обезбедити балансираном исхраном и да суплементација у одсуству дефицит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ће утицати на спортске резулта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рећу, сем ниацина, који у вишку може смањити физичку издржљивост и чак изазвати оштећење јетре, нежељени ефекти предозирања осталим Б витаминим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остоје или су веома ре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итамина Ц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ома популаран међу спортист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истан у спорту као антиоксиданс (у препорученој доз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раживања су показала да примена витамина Ц у вишку смањује спортске перформансе и може и негативно да утиче на њ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комерна примена витамина Ц, због његових изражених антиоксидативних својстава, онемогућава функцију ендогеног антиоксидационог система зашти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контролисани унос витамина Ц може имати и штетне последице и по здравље уопште, међу којима се истиче појава оксалатне нефролитија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итамина Д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авна истраживања су показала да се дефицит витамина Д веома често среће код спортиста, нарочито жена млађе животне доб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д ових жена доводи до мишићне слабости и излаже их значајном ризику од прелома костију током трен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д недовољног уноса витамина Д надокнада је обавезна, посебно у околностима интензивне физичке ак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ђутим, предозирање овим витамином неће имати никаквих повољних ефеката на коштани систем, већ напротив може довести д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иперкалцемиј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која је нарочито опасна због депресивног дејства на срце и централни нерв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итамина Е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ак витамина Е онемогућава нормалан раст и изазива мишићну дегенерацију због чега његова примена може да умањи оштећење мишића током напорног трен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атра се да примена витамина Е може да повећа искоришћење кисеоника у току бављења спортом на великим надморским висин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ђутим, истраживања су показала да, слично осталим антиоксидансима, суплементација витамином Е у одсуству већ постојећег дефицит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ће имати утицај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портске перформан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им што може повећати потребе организма за витамином К, други нежељени ефекти предозирања витамином Е до сада нису описа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НАЧАЈ МИНЕРАЛА КОД СПОРТИ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концентрације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тријум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фицит натријума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 издвојио као врло значајан поремећај који је неопходно спречити посебно у дуготрајним спортским активност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ако се током 2-3 сата напорног физичког вежбања, знојењем, може изгубити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1,8-5,6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g Na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Calibri"/>
              </a:rPr>
              <a:t>+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д садржаја натријума у организму првенствено је резултат профузног знојења, које настаје као резултат вишесатног вежбања и високе спољашње температу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убитак натријума и пад волумена екстрацелуларног флуида и плазме неповољно утичу на ударни волумен, менталне и физичке перформан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цес аклиматизације на високу температуру и повећање уноса натријума храном (напици) и/или таблетама представљају важне елементе у превенцији овог дефици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концентрације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алијум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атра се да се дневни губици калијума који настају током тренинга у већини спортова могу једноставно надокнадити добро избалансираном исхра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портовима, које карактерише издржљивост, као и у условима високе температуре, губитак калијума може бити значајан (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300-800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g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, током 2-3 са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те је неопходан додатни унос овог минера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528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УТРИТИВНЕ КАРАКТЕРИСТИКЕ ВИТАМ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немају енерегетску вредност за разлику од масти, угљених хидрата и проте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већину витамина организам не може да синтетиш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морају се зато унети хра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потребни су нам у малим количинам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mg или </a:t>
            </a:r>
            <a:r>
              <a:rPr b="0" i="1" lang="el-GR" sz="20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тачно дефинисане потреб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препоручени дневни унос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DA; recommended daily allow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Резултат слика за vitamini"/>
          <p:cNvPicPr/>
          <p:nvPr/>
        </p:nvPicPr>
        <p:blipFill>
          <a:blip r:embed="rId2"/>
          <a:stretch/>
        </p:blipFill>
        <p:spPr>
          <a:xfrm>
            <a:off x="3132000" y="4581360"/>
            <a:ext cx="27082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концентрације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магнезијум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836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једини стручњаци предлаж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датн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нос магнезијума посебно код младих спортиста изложених дуготрајним физичким вежбањ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вакав став резултат је пада концентрације овог минерала у плазми, у првим сатима након вежб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раживања су показала да се 24 сата након завршетка активности, као резултат редистрибуције магнезијума у организму, успостављају нормалне концентрације овог минерала у плаз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име се поставља питање оправданости суплементације магнезијум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концентрације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гвожђ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052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 спорту, дефицит гвожђа често се среће код млађих атлетичарки и гимнастичара, пливача, тенисера, кошаркаша и одбојкаша оба п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траживања као разлог наводе недовољан унос путем хране, али и губитак услед прекомерног знојења, обилних менструација, миоглобинурије и хематурије, који се могу јавити као последица напорног трен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колико се код спортисте утврди присуство хипохромне анемије, надокнада суплементима гвожђа у циљу поновног успостављања нормалног нивоа хемоглобина у крви је неопход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олико постоји само дефицит феритина без присутне анемије, суплементација у циљу попуњавања депоа такође може имати  позитивног утицаја на спортске резулта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одсуству било каквог дефицита, суплементација гвожђе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 не препоручуј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обзиром да неће побољшати спортске перформансе, а у вишку може изазва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ежано пражњење црева и хемохроматоз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концентрације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хром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ом у свом тровалентном облику игра значајну улогу у метаболизму масти и угљених хидрата, обзиром да омогућава синтезу холестерола и олакшава преузимање глукозе из крви у ћел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ази се у месу, изнутрицама и житарицама, а његов недостатак може да доведе до резистенције на инсулин, хипохолестеролемије и неуролошких поремећа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ако је примећено да екстремни физички напори током тренинга могу да повећају излучивање хрома путем урина, то најчешће није праћено развојем дефицита, те надокнада није потреб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плементација хромом у спорту не побољшава снагу ни издржљивост нити утиче на повећање мишићне масе, те се не препоручује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ебно због склоности да се у организму нагомилава, као и оштећења бубрега, јетре и мишића до којих може да доведе уколико се предозир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концентрације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цинк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ше од половине укупног цинка у организму налази се у мишићима, због чега му се приписује значајна улога у производњи енергије и заштити од оксидационог стреса у току физичке ак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д спортиста, интензивна физичка активност, нарочито на високим температурама, додатно потенцира дефицит услед губитка из оштећених мишићних ћелија и излучивања знојем и урином, што може изазва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д телесне тежине, замарање и смањење издржљив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датак цинка се препоручује само уколико постоји дефицит, док у супротном нема назнака да суплементација може побољшати спортске перформан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ротив, предозирање цинком може да доведе до дефицит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акра, који се манифестује сидеробластном анемиј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концентрације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селе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лен у организму учествује у многим ензимским реакцијама, при чему се нарочит значај придаје његовим антиоксидативним својств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ази се у месу, јајима и плодовима мора, а његов недостатак изазива оштећење мишића, опадање ћелијског имуног одговора и повећану склоност ка настанку карцино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ако интензивна физичка активност утиче на појачано стварање слободних радикала, мишљења о позитивном утицају суплементације селеном на спортске перформансе су још увек подељ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олико дефицит постоји, додатак селена у исхрани свакако је препоручљи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упротном, треба га примењивати уз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з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јер предозирање може смањити његову заштитну улогу и изазвати алопецију и неуролошке и гастроинтестиналне поремећа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166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ЛОГЕ ВИТАМ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НЕЗАМЕНЉИВИ БИОЛОШКИ КАТАЛИЗАТОРИ ЋЕЛИЈСКИХ ХЕМИЈСКИХ РЕАКЦИЈА (КОЕНЗИМИ И ПРОСТЕТИЧКЕ ГРУПЕ ЕНЗИМ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ОСИГУРАВАЈУ ПРАВИЛАН РАД МЕТАБОЛИЗМА, РАСТ И РЕПРОДУКЦИЈ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ПОТРЕБНИ СУ ЗА СИНТЕЗУ КОЛАГЕНА И КОСТИЈ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ВАЖНИ У ОДВИЈАЊУ ПРОЦЕСА КОАГУЛАЦИЈЕ КРВ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УЧЕСТВУЈУ У КАТАБОЛИЗМУ ИЛИ АНАБОЛИЗМУ УГЉЕНИХ ХИДРАТА, МАСТИ И ПРОТЕ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НЕОПХОДНИ У ФУНКЦИОНИСАЊУ ВИДА (ФОТОРЕЦЕПТОР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*поремећај уноса витамина води у хипо или хипер-витаминоз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8360" y="126792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Витамини растворљиви у мас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рисутни у намирницима које садрже м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лабо растворљиви у вод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Уносе се у облику еста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Варе се под утицајем холестерол-естараз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псорбују се у горњим партијама танког црева (проста дифузиј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За апсорпцију неопходне жучне со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лазмом се преносе у облику мице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кладиште се у јетри и масном ткиву (вит. А и Д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отенцијално токсични, посебно витамин 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линички знакови недостатка се развијају после више год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400" spc="-1" strike="noStrike">
                <a:solidFill>
                  <a:srgbClr val="000000"/>
                </a:solidFill>
                <a:latin typeface="Calibri"/>
              </a:rPr>
              <a:t>* Апсопрција ових витамина се смањује када се смањи апсорпција масти (недостатак жучних соли и/или холестерол-естараз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360" y="169992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Витамини растворљиви у во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обро растворљиви у води (телесним течностим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псорбују се у горњим партијама танког црева (изузев вит. Б1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Вит. Б12 се апсорбује у илеуму везивањем са Унутрашњим факто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Већина се апсорбује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sr-Latn-R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отрансопорт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Вит. Б12 и Б9 преко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sr-Latn-R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независних транспорт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Вишак се не складишти осим вит. Б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Главна улога – коензими и простетичке групе ензи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линички знакови недостатка се развијају после 6-8 недељ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68360" y="134100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изиолошка искористљивост витам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Људски организам не може у потпуности да искористи све витамине присутне у хра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Одређивање количине витамина у намирницама није довољно да се разуме стварна искористљивост витамина из тих намирниц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Фактори који одређују витаминску искористљивос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пољни факто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утритивни факто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нутрашњи факто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68360" y="126792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Физиолошка искористљивост витам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пољни фактори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libri"/>
              </a:rPr>
              <a:t>Различити биопотенцијали витамера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нпр. ергокалциферол (Д2) је значајно мање активан од холекалциферола (Д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libri"/>
              </a:rPr>
              <a:t>Губици приликом складиштења, прераде или кувања хранљивих матер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нпр. количина витамина Ц у кромпиру се смањује на 1/3 током складиштења у трајању од 1 месе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*витамери-скуп различитих хемијских супстанци који сви показуј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сличне биолошке активности као неки витамин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(нпр. различити облици витамина А, Д ис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26920" y="1267920"/>
            <a:ext cx="7871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Физиолошка искористљивост витам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утритивни фактори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libri"/>
              </a:rPr>
              <a:t>Фактори који утичу углавном на апсорпцију витам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libri"/>
              </a:rPr>
              <a:t>То су пре свег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sr-RS" sz="1600" spc="-1" strike="noStrike">
                <a:solidFill>
                  <a:srgbClr val="000000"/>
                </a:solidFill>
                <a:latin typeface="Calibri"/>
              </a:rPr>
              <a:t>- састав оброка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sr-RS" sz="1600" spc="-1" strike="noStrike">
                <a:solidFill>
                  <a:srgbClr val="000000"/>
                </a:solidFill>
                <a:latin typeface="Calibri"/>
              </a:rPr>
              <a:t>- начин исхра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нпр. Витамин А и провитамин А се слабо апсорбују ако је оброк сиромашан мастима ис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06:32:31Z</dcterms:created>
  <dc:creator>Ivan Srejovic</dc:creator>
  <dc:description/>
  <dc:language>en-US</dc:language>
  <cp:lastModifiedBy>ХХХ</cp:lastModifiedBy>
  <dcterms:modified xsi:type="dcterms:W3CDTF">2020-09-28T12:46:51Z</dcterms:modified>
  <cp:revision>173</cp:revision>
  <dc:subject/>
  <dc:title>ФИЗИОЛОГИЈА КРВИ</dc:title>
</cp:coreProperties>
</file>