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553-C05B-4F11-98E8-B209BD18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EDA-FEB3-42A8-8A77-CD57EA56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A0F-B29B-4179-819B-39F105EA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682-66AF-473A-8A4F-1FC37EB9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8CA-0F1A-4895-934C-78C57466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C09-A697-42B9-836B-CC7A6DC0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E6A6-2308-496C-98DF-7AA9AEDF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35C-B3BD-46C9-AB94-06788661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9A3-F1E3-40DC-BC6E-E0A936D4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8BD-0906-48CE-9A59-F4854AE0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8BC-F719-4C8B-9DDD-D6A581A1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EBF-BF84-4B12-AC1E-AFA44A76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4BEE-4F0A-4FB2-A994-90091C988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2409480"/>
            <a:ext cx="77724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 вежба: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треба витамина и минерала у спорту. Специфичности примене витаминске и минералне суплементације у односу на пол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старосну доб и врсту спортске актив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24000" y="1579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вожђе и калцију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6000" y="1483920"/>
            <a:ext cx="871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вожђе и калцијум су означени као минерали који су најчешће дефицитарни код спортиста, јер њихов унос директно зависи од енергетског баланса, и то нарочито код младих спортиста и же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Њихов дефицит директно утиче на смањење спортских способности, поготово ако говоримо о анемији као последици недостатка гвожђ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508720" y="4554360"/>
            <a:ext cx="3316320" cy="220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36496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итамини и минер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0600" y="256536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раду под називом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ietary Supplements and Medications in Elite Sport – Polypharmacy or Real Need?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ји је 2009. године Антидопинг агенција Републике Србије објавила у престижном часопис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Scand J Med Sci Sports)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казано је да су спортисти и тада од свих суплемената највише користили мултивитамине и минерале, и то чак половина њих у групи од преко 900 професионалних домаћих и интернационалних спорти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итамини и минерал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0600" y="1915920"/>
            <a:ext cx="8362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утори овог рада су довели у сумњу феномен полифармације и утицај на спортску способ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ључили су, позивајући се на литературу, да коришћење ових мултивитамина и мултиминерала није имало ергоген ефекат код оних спортиста који су имали довољан унос према ПДУ (препоручен дневни уно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тамини и минера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0600" y="1412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ставља се питање зашто спортисти од свих суплемената ипак највише користе мултивитамине и мултиминера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јашњење можемо наћи у раду који је 2007. године објавио професор Роналд Моган под називом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use of dietary supplements by athle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моћ у убрзању опоравка наведена је као најчешћи разлог узимања суплемената, са учесталошћу од 71%, испред побољшања спортских перформанси или општег здрав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ргогено дејство мултивитамина и минерала је очигледно потврђено код спортиста код којих су они били у дефицит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тамини и минера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0600" y="2060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тамини и минерали имају значајну функцију у организму и зато њихов недостатак реално може да утиче на спортске способности и да повећа ризик од повре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тамин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6000" y="2060640"/>
            <a:ext cx="8712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 B витамина је укључен у метаболизам угљених хидрата, протеина и масти, учествује у продукцији енергије током вежбања, утиче на раст ткива, формирање еритроцита, учествује као коензим у многим реакцијама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076720" y="4292640"/>
            <a:ext cx="3726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тамини C и 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6000" y="1844640"/>
            <a:ext cx="8712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тамини C и E спадају међу најважније антиоксидансе у нашем организму, који спречавају штетно дејство слободних радикала, који настају током интензивних трен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>
            <a:off x="155520" y="4005360"/>
            <a:ext cx="3895920" cy="2647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40546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нера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0600" y="90792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нерали учествују 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шићним контракција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тичу на срчани рад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овођење нервних импул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порт кисеони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ствују у оксидативној фосфорилациј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нзимској активациј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билности имуног систем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ају антиоксидативне функциј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тичу на стабилност костиј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цидобазну равнотежу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Минер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06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што су ови процеси појачаног интензитета током физичке активности, логично је да минерали значајно утичу на спортске способ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7:24:21Z</dcterms:created>
  <dc:creator>Vlada Jakovljevic</dc:creator>
  <dc:description/>
  <dc:language>en-US</dc:language>
  <cp:lastModifiedBy>х</cp:lastModifiedBy>
  <dcterms:modified xsi:type="dcterms:W3CDTF">2018-11-06T20:17:11Z</dcterms:modified>
  <cp:revision>63</cp:revision>
  <dc:subject/>
  <dc:title>Демијелинизационе болести Мијастенија гравис</dc:title>
</cp:coreProperties>
</file>